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92C-B57C-4EF7-AB18-21832E54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E22-24DF-43BF-AE6A-F82C3584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292-0923-4CBE-BCBB-AB8D3823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777-6CD0-47B4-BAE9-20B006C6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9F4F-C634-4F73-AFAB-63F0B935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8457-C9CA-4720-B08B-BB92AB39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7FE1-448C-4726-BBEE-35200AE4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381A-0A68-4FFB-9DEA-ACF6F6AF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9DB4-1F98-475B-8B19-628C2484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CFC6-2DF3-458F-AAF7-D95765B5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5EB5-BB74-426F-B589-63B88CE1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846-CDF8-475E-8BDD-C2F13E2B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F1A2-DFF1-49D0-A5DD-117E3E29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CC9B-52A9-4EF3-A71E-9859B4BA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BE27-FF66-4109-B8B0-FEAD205B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2DB4-AF26-4685-9E20-83855EFA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AD84-8CDF-4DFF-AB28-B1F08F55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FD0-BD0D-40CA-AC6C-6F24EEF2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B32-2C93-4A2A-B7D3-FE55B743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96E-51D8-4496-AE4D-C07C37FB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D2E-5F71-4E10-99CF-FB0EB8DB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3489-3632-47D3-A583-ACA8C0E4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6B0-DE28-4E71-B7BE-1EEAD71D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939-F74A-4AD7-BB1A-6D6243A3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40FE-3BB9-4F5A-9B0D-3328F9A48F9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1840-C039-4AB4-8729-C763E58017F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SM/RtI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6-8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om 3 Tiers To 4 Ti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ier 1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iated Instru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sonal Education Pl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s Universal Screening Data indicating Student is between Well Below Proficient and Profici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ier 2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ypically standard protoc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ypically lower intensity, e.g.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rger Grou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argeted more to skills at the middle to the hierarch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vided by staff other than Special Education teach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ier 3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velop An Assessment Pl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alysis of  the Assessment Pla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velop an Intervention Pl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gress Moni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vision of Hypothesis/Intervention Pl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alysis of the Intervention Pl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quest Formal Evalua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ier 4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An </a:t>
            </a:r>
            <a:r>
              <a:rPr b="0" i="1" lang="en-US" sz="3000" spc="-1" strike="noStrike">
                <a:solidFill>
                  <a:srgbClr val="ffffcc"/>
                </a:solidFill>
                <a:latin typeface="Times New Roman"/>
              </a:rPr>
              <a:t>Entitlement Report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is written by the school psychologist to summarize all the data from Universal Screening and Differentiated Instruction through Levels 1 and 2 and address Entitlement Criteria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cc"/>
                </a:solidFill>
                <a:latin typeface="Times New Roman"/>
              </a:rPr>
              <a:t>The case is presented to the PSM Review Team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to determine if all the criteria have been met and discuss issues of process integrity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cc"/>
                </a:solidFill>
                <a:latin typeface="Times New Roman"/>
              </a:rPr>
              <a:t>If there is agreement between the school and the PSM Review Team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, parents/guardians are invited to an IEP meeting to determine entitlement and write the IEP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5:31:58Z</dcterms:created>
  <dc:creator>Nancy Kreykenbohm</dc:creator>
  <dc:description/>
  <dc:language>en-US</dc:language>
  <cp:lastModifiedBy>Nancy Kreykenbohm</cp:lastModifiedBy>
  <dcterms:modified xsi:type="dcterms:W3CDTF">2010-09-13T15:47:00Z</dcterms:modified>
  <cp:revision>2</cp:revision>
  <dc:subject/>
  <dc:title>PSM/RtI 6-8</dc:title>
</cp:coreProperties>
</file>